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7BF7-F7FF-440A-9375-610AAAA73E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CD68-32B2-420B-BE47-17E7DA1432C1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65C3-D3D5-481E-A151-ED47D8CC0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B5BF-0B49-4ED4-8AC3-BD91D3661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813E-13AF-4103-9F3B-6002DE6C9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6B4E-DE15-41C9-9D8C-4755DBB8B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9B7BB-DA4F-42BE-861A-D0840FB731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E4B52-CBD0-488C-B5FE-A326084AD8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F67D3-76D6-46BE-8BF6-E2BB1AD34E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1D86F-6ACE-4665-9B63-23E3FB1ECF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141A7-E1D6-487A-9B2A-A8CCC4EC4F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E757A-77C1-4ED2-A968-36561A1933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CA10E-C48C-4B88-8822-CC64BF7747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B394-22C8-4EC5-A7FE-98747E58A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9CEC9-86F9-4EED-9100-4388AE35AF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E8207-E5F3-47F2-9281-3422F103AD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E95C8-FADA-4E91-AEF8-75F2F88364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BF98C-3C71-4520-B0F1-C83CB4374A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9A0EC-59CF-4C7B-B616-C57DBE67E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3E99-6C86-451F-A9E9-A69D03BCA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25DB-ABF9-4E06-AE3D-32401C597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0374-85C7-4872-9593-2855F27B3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7D06-3307-419F-9DAB-6E3A87B57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8BAA-B8E9-4918-9598-3F919A4C3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822F-19EA-4FD4-B5CB-9BA0BC607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BE6F-2F69-4B18-BCA2-728399C31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27DA8D5-A79D-4E5D-8139-C87F0875E97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DE1A462-66AF-47E7-BDB9-0DBD2A90CF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9299876-C9CE-4EAB-A033-EAB526DD9DA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A535E4C-A58F-42C7-A8DC-B7053055740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1-09-29T12:02:39Z</dcterms:modified>
  <cp:revision>354</cp:revision>
  <dc:subject/>
  <dc:title>Exploratory Data Analysis</dc:title>
</cp:coreProperties>
</file>